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0C8F-D1F6-4EAA-A745-9BA56525E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ACFA-F675-41CF-A09D-1BB66F702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DF61-2E29-42FF-BC93-3D517D42D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1B4A-0D06-4B6F-BECE-A36884722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6D28-7B30-494B-B8BC-3BF6C9C52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E814-218A-4129-87A5-49DBF3074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6EFE-594A-42D5-8E9B-52B7350DC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9B9A-18D7-4201-93A1-73C56E8DE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FC9B-FE06-4934-BA7C-EEF8DE86F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9BEF-7810-4D6D-BDFC-31A27332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22E0-1655-4026-92AF-C10C1C57C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821F-76F2-4CF2-821D-5B25A4BBF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31BE-A07C-49DE-8451-373BA4011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B6F1-A1BE-4BF6-AFD6-D2CD444A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9B4A-3C69-46D4-A0C1-D254234C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4180-CA12-4C2E-86B5-54B16CF9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B4D1-BAB5-4F37-9B2B-7B054A86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844B-5213-476B-9DDB-7E6BDE28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C768-004B-42CE-B67E-0640B8DB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F100-1BE0-4996-A67A-1FD94DA7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CB38-D769-4A35-B268-EA9FFD42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E852-C74B-45DF-B8C3-7A7A00EF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E7BF-8EBE-4F52-8B7F-2C00B68C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9CAE-C0EE-4FFB-A12B-6273CDC7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5CD0-C49B-4A60-AAD6-2F8FC8735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12EE-ABB7-4340-B842-A1218460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722B-A855-443A-A250-A2774148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9160-01B9-41A5-A601-0A3E2B2E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BE8C-4425-4350-A9AF-5A93CF5D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E967-B75A-4137-BD44-F2DE73F7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974D-9E8A-45D2-A0B3-303D8303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9DFA-2CB5-4D2A-A1D6-1720618C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CF18-D79E-44CC-A6D6-FD8BCA3E5E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BFF6-C3E5-484B-9085-5310D2804A2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480" y="914040"/>
            <a:ext cx="693432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0033"/>
                </a:solidFill>
                <a:latin typeface="Times New Roman"/>
              </a:rPr>
              <a:t>Are You Part of a Professional Learning Community?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find out and what to do about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re You Part of a Professional Learning Community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hort Bibliography for More Information abo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essional Learning Comm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ailure is Not an Option: Six Principles that Guide Student Achievement in High Performing Scho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lan Blankstein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tting Started: Reculturing Schools to Become Professional Learning Commun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Robert Eaker, Richard DuFour, Rebecca DuFour,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ading Learning Communies: Standards for What Principals Should Know and Be Able to 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NAESP,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n Common Ground: The Power of Professional Learning Commun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Richard DuFour, Robert Eaker, Rebecca DuFour (Editors)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fessional Learning Communities At Work: Best Practices for Enhancing Student Achievement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hard DuFour and Robert E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atever It Takes: How Professional Learning Communities Respond When Kids Don</a:t>
            </a:r>
            <a:r>
              <a:rPr b="0" i="1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Lea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Richard DuFour, Rebecca DuFour, Robert Eaker, and Gayle Karhanek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re You Part of a Professional Learning Community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most promising strategy for substantive school improvement is developing the capacity for school personnel to function as a professional learning community (PLC).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ert Eaker, Richard DuFour, and Rebecca DuFour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tting Started: Reculturing Schools to Become Professional Learning Commun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re You Part of a Professional Learning Community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fessional Learning Community is NO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gram to be implem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ckage of reforms to be ado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ep-by-step recipe for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re-fire system borrowed from another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ore thing to add to an already cluttered school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LC I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WILL CHANGE A SCHOO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CULTU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re You Part of a Professional Learning Community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raditional schoo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cus is on 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ing is done in is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s think of the themselves as autonomous, independent contr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eachers have little input into the schoo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vision and mission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choo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mission statement is generic and tangential to classroom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re You Part of a Professional Learning Community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raditional schools (continu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incipal makes the decisions and teachers do what (and only what) they are told to 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urriculum and the textbook are one and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s are norm-ba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results are used for grading purposes on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ho do not learn are given the opportunity to catch up.  The rest is up to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re You Part of a Professional Learning Community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ssential Elements of a PLC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LC is a collaborative ven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LC is always focused on student lea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LC distributes leadership responsibi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LC narrows the curriculum to its ess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LC shares best practices as a means of improving in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LC uses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for learnin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ddition to the usual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of learning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Your Professional Development Grou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ing to run as a professional learning communit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re going to share ideas and critiques based on the readings that we 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re going to discuss application to our classroom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re going to culminate with a presentation that will model best practices, while sharing what we have learned with th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ach PDG Group Meeting will…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approximately 45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a literature circle; each week you will have roles that will help guide the convers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for time to plan culminating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what the reading/at home responsibilities are for the week a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DG’s will meet 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ober 5 (pre-plan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.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.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.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.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Any additional time needed will be outside of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Be sure to assign readings according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6:07:14Z</dcterms:created>
  <dc:creator>John Golden</dc:creator>
  <dc:description/>
  <dc:language>en-US</dc:language>
  <cp:lastModifiedBy>Nicole Pepe</cp:lastModifiedBy>
  <dcterms:modified xsi:type="dcterms:W3CDTF">2012-10-05T03:21:30Z</dcterms:modified>
  <cp:revision>16</cp:revision>
  <dc:subject/>
  <dc:title>Are You Part of a Professional Learning Community?</dc:title>
</cp:coreProperties>
</file>